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768C78-F301-49F8-B4F3-3DAA0B48A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3C7D02-DC70-467F-9D29-E8FECF315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D81768-0FAA-4A7D-B4B1-16BA5109B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F6A402-7DF6-4962-97E8-7D343ACA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7B60AB-3A7F-4E64-B4C5-B304E1BB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1E6E0A-B349-4631-A5DB-279AD1DAD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6DB221-6B15-422B-9F1F-8CF4C9CAE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D65D1F-D69C-4F2E-9234-CBE0FD3BE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8A2467-6C99-4B80-BDC5-B8B047652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51D94F-E8A1-4A2F-AE00-753F153FD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7FFE34-5430-4B45-A9AA-D8935A905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269FF6-FC3A-4D94-AC43-93B4AEFBA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6B50FB-3920-4F04-B8C0-634989B77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EE6A15-7E66-484C-BD4B-45D0D5802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BBA821-CBBF-4B40-850B-8F0027828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D69074-8E44-4524-80EB-65996394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017135-0BBC-40B9-9E79-8BAA58AA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48DE3F-0ED8-429B-8E29-E53A86952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5D9E1D-32BC-4B17-A4CD-69E72B2C5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EE5C2E-B811-4989-9E98-5E7E16870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84723E-6629-4967-AB92-0B351CED4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AFCF21-59BF-4027-A501-63D95E2CA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D008D3-20AA-4BD7-8EC8-BE70AB939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3D2E64-4D0F-4743-9804-D8BCB6C5B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4C5748-1FBA-4616-BF61-585C52E9C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367B96-C497-4FA0-8EA6-5C8F07E62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207235-960E-4DCA-8E77-52B83FE3A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3E8957-1E86-46B2-B57F-D44DA240B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4DA3CB-868B-4E46-91FE-5BE9436E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8EFAE5-7BBE-43E6-A4BB-EE4E6415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E7F5-6DB9-4C90-A94D-40A824580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952BE9-8052-434F-B568-0039B3A31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DC26EE-1EDB-4293-9484-F0E73EF44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D9053C-923C-4DD1-8B38-227647145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44DB3F-863C-4A5F-B8CD-17C382E6F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D1D67C-3548-41A9-96AA-A37101A9F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F7A8E1-9BAF-448E-A000-B4B8FF397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811015-B899-4E22-9A3A-D02DD0532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3DA82C-CCE6-4187-99E7-4182CCAE7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F17FD2-DD56-4A59-BAC6-982BB7929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9C25F5-BEE5-4D90-AC6F-45AADDB92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F3D3-C0AF-4EB4-B5C9-5CC6943AC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31B35F-9D07-48F0-8810-2BD843EF5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FB630A-37BF-464D-9171-41704775F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5A2538-A0D7-4B13-BA39-80D5B1446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032CAD-AA81-4A0C-8695-F4B3F8C83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325A03-BD44-417D-A649-388994E51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CF77-BAE5-4A73-B072-0E9A2C02D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6452-AA07-4EF7-9C1D-E59BA40F1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E017-BEB3-4645-90FA-E1D900964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044C-7952-4542-9AE0-E0C73F4D7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B460-7E5B-4E90-BB7A-DF9DF1704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7F49-AC16-4E8E-A284-6CA17706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9FD2-B5E9-4CAB-A7C6-6981D8C95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F1EA-1796-4349-A5EC-3DBDEBFC2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1B78-25E7-4B4B-A973-93D03A9C5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B669-C385-4296-A204-DC6000100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149A2-3D8F-49EA-B01D-14C31CED4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670BA-5B45-49E4-966F-852AE0E74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E7222-261A-4104-BCEB-588FD2702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D51E9-39D9-45D5-9839-163C95F37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4CE70-BE74-4E19-A23B-C543A7D8C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A2E94-45D6-4912-AB79-22C0154C5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89B9D-6A70-4563-9B54-7E2EC09F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DEECA-8DCF-4546-8A4B-D8C26990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99B0E-27B8-4E0B-8F17-E687F074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946E1-B70C-4D64-B00F-D404C703A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241FE-86D8-449C-9670-483EA6068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393AF-3EEE-402F-B9AE-3433606FF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A4403-2FA1-47E9-B211-9D21E7903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CCBB5-19B4-403D-A601-9BCCA0382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C1DB1-42F4-4340-9F24-7C63CE446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DD13A-4BA7-4B35-914B-DB213E75B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CE30C-E35E-4904-B4E1-294B15879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68472-6E23-492E-8E04-8BF4EA41C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BF1BB-49C0-43CE-B9A8-9F6B54469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43E81-3826-451F-A31B-7645886FC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88481-A920-4E48-959A-5ED57D81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C280D-0F6B-44E2-A4DE-E007A188C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31970-F641-4E49-A385-8C0DC0687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FBC27-D550-4DBB-8FCA-D9C320E28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9C982-8B3F-464A-9F95-83511FA50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04427-8300-4800-B4F1-6212A4E93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33C92-C39D-4311-84C9-DE4D5ED6F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DF114-1CEA-4A94-8AB6-FAAF460B8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462F3-B9F6-4803-A97E-4228E17F3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859FB-6AB0-480E-A2CF-71ABA7B7C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C2265-C6BF-4B53-A078-888E3F10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10A84-6991-4919-9057-C4EAB2E2F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99F7C-8716-4760-A03B-77B3311A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060BA-B26C-4718-922D-82693EA69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0E2AE-77CB-4F43-9283-D5F29A0CF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9AD14-5251-4FC2-81A4-F5080C84C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750F2E-8B75-41BC-8F0B-1844CC141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B1008-A37E-4988-B1C1-FDD92827B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5416E-CA8D-441C-841D-9D193766E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C0322-B249-4645-9E81-2A1CD9E63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5B8F5-0C3B-4A5A-B208-6B9B14A4B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B25394-0E45-46DF-AE08-B52198DEF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01C1D-F58B-4B96-8511-88BC6792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2F1E92-55EB-482F-B2A9-03FF8F533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72EFC-2AED-4EA6-B611-6C374A5E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37A6C-50B9-4E25-B847-B16366499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A4CAB0-F023-4001-A532-288C5D89A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2C5CD-2A2C-476E-8E9E-D0CB7DD0E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0B788C-CDA5-450D-B5B9-7F6EE45B8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1303BA-7BB8-454A-8032-DA8AE5F6D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432D27-A736-4E95-8863-E7938E998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7E948-CAD7-404D-A6C6-218B48CC5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399E03-3D3E-41B4-A845-9861AC2DD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83BE78-3C30-4343-A734-53EF59B41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B40F17-30A3-404B-95FD-6CF866F1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8623AB-1AC9-4FDB-A9A0-9AD4094A7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FC6089-AE92-495D-8E62-C294F9B7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DAA41-8538-422C-AA5A-9CB4B15AF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069FA8-40C4-475D-A763-A9A0D4A24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B81AD7-ACEA-44B9-BBB4-C60018951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C6AC73-41B2-4E7A-BDED-6BB7A55AE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CBF274-0D90-45DF-9B41-9BAE20720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2C6A8F-C3BE-4856-A7E6-582C6F65B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6EC72E-9E16-4156-871D-1CD60133E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337E6E-022B-4017-BEE3-4E6A029D5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2AC02E-03D4-4805-885B-01BA2E45C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739B02-39D6-4A67-B4EB-862B97DEC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789B69-C136-4FE9-A81A-13AC77C5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75761A-EC05-4B59-B90F-EB20D813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DA4E9B-72F2-47D7-B721-3AE2788CB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DC619C-024B-4113-9D93-91606B8EA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1DE9B1-C2A6-4AD5-B6A0-E19BC1AF3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CFB881-02D1-41C6-B52C-481987ABB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4C87FF-B36C-4550-A2CA-7BD0F5244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AF71CC-2213-445A-9B6E-1702F98F6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9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1C70C-B991-46A5-B883-BF6584C55FD0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4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F6596-556B-4087-880B-A6F81DE75D99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8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B1503-99C0-4F43-A5D7-C0D44453B2BA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3370C-B4AF-4B2D-A597-18695BD5FA0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8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4DA01-23CB-4057-A967-F9F1010D99BD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FC894-856E-4F49-BBC6-B6FB9408943E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7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766D1-C0C4-47AE-869E-3FCBD5A8BDE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2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EB5DE-2338-4362-B5F9-A713DC8CD897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6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97E35-44F2-4433-B2EF-A15BCB417B4C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11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2C705-F58D-43E4-A692-22BEA6F67350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5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1349E-651F-4146-B058-2A24A0534858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escentralização da Gestão do município de Ponte Alta do Bom Jes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B0B51-BBCF-40D1-8609-E0F2104E8655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Tabela 4" descr=""/>
          <p:cNvPicPr/>
          <p:nvPr/>
        </p:nvPicPr>
        <p:blipFill>
          <a:blip r:embed="rId1"/>
          <a:stretch/>
        </p:blipFill>
        <p:spPr>
          <a:xfrm>
            <a:off x="212760" y="1712880"/>
            <a:ext cx="807732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12:40:42Z</dcterms:created>
  <dc:creator>Cleison Lima Moura</dc:creator>
  <dc:description/>
  <dc:language>en-US</dc:language>
  <cp:lastModifiedBy>marleidesilva</cp:lastModifiedBy>
  <cp:lastPrinted>2017-04-12T15:53:19Z</cp:lastPrinted>
  <dcterms:modified xsi:type="dcterms:W3CDTF">2017-04-19T19:16:40Z</dcterms:modified>
  <cp:revision>929</cp:revision>
  <dc:subject/>
  <dc:title>Apresentação do PowerPoint</dc:title>
</cp:coreProperties>
</file>